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A6440-9972-4591-9FEE-E5B2187C4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DEB7E-40F7-462D-83F3-8250B4848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F360C-CFA2-4691-8F88-98FB42100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A49A4-D6ED-4F47-BAAF-A1ABAB55F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423ED-4391-49DD-A4B3-76871D22A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9C054-4DFA-4811-BF88-3AAD41ABE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53929-F259-40F1-BA10-62F11D1E4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1D353-D521-4F32-B346-E94A4FA81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84F4D-5746-48CB-97F4-C69B6C6C5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D8D82-A95E-4E7C-8970-508EC8949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C22D0-396E-46DC-8444-C63102121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08E7C-90D7-41DD-AFC1-B6A5AFBC7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B0490-5949-4516-B18F-8FB0BF78F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7679E-AA40-4E2F-8115-8DC2812F0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B3E6F-C16A-45A2-A958-52E0B53F34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E9610-385F-4644-9F1B-5F615282CB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3DB1B-398E-4CC7-A68C-3A5723699A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7DF17-5B57-495C-B953-C870BC1C77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E338-98E2-4C47-954B-F552C6214B5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DBF8-B65D-4639-A147-4597E38C23D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FBEC-49EA-41A3-9DFA-C50070C6B32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153D-1BFC-4A1E-9F71-6D3738EC14A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C78D-B9B1-4FB3-970B-6A73A6221E1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55C0-7082-49C3-9E33-3574CDB7F0A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881B-929F-4888-A465-6F567FC40C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20D85-E068-4A52-9309-BD6FD48B01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6198-4658-4EDD-87AD-594D465593A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8F55-E3A7-423F-8BDD-5DCBEA3C986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04EE-1934-4AF3-8F9E-2FBD7FC79E3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55BA-A24E-4B90-AD2C-9DF4ACE4F06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BFA2-80FF-4409-9702-3078EEF18B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2CD2A-3CBD-4D00-B048-6C25A0D0A8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B6431-0D1A-4EF9-B3FE-C58A020D76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72514-5239-4E3F-A4D7-679B8FEBA3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CDF18-34B4-464F-A4C3-A0B507F78E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B408F-8FAB-4E82-86E7-7BD828E55E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BEDAF-C63C-4489-B2C5-A53ABCF883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AFB67-D0B7-4F96-88F8-74592643CF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73391-4222-4A9C-A464-DEF99A2E43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40000" indent="-205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51480" indent="-205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FF45E-C020-4138-AFDE-8328702B62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2971800" y="1600200"/>
            <a:ext cx="61722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cess Control: Q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uality Control of Qualitative and Semi-Quantitative Procedure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5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EA51-4F47-4359-883A-73FBD92A056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sing 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 as per patient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positive and negative contr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a weak positive control for immunological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oose positive controls close to the cut-off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control to monitor extraction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2A455-BDE3-4296-A224-0D147EC5C7F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9268F-9C02-46CE-9036-82E79B27C05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3200400" cy="275616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98859-8652-49F3-AD2C-27AD185ED7B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ck Cultures for QC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ence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in-house developed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able reactions in stains and medi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media, reag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supplies work as int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886200" y="434340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B5F08-647B-4EB5-BDDB-986DD00CBC6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ources for Obtaining Reference Strai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C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merican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TCC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ional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(UK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teur Institute Collection (Fran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02B3A-1F05-4292-9DD8-A025C3803C3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20CDA-D172-4A61-B57B-956A8229D94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55F20-E932-43CC-92D8-4B13DD1529D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s are important—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e care of them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21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5659560" y="525780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o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95520" y="52578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Continued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D301A-9C22-4B96-83F2-E361943F657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FB320-28B8-4ECE-95EE-EC698933DB9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 Manag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established procedure for preparation or reconstit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el: content, concentration, date prepared and placed in service, expiration, initi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appropriate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3FABC-25E1-4A32-93A5-458EE369BBE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62DF6-3E3A-480A-9F9B-1583BAC8894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for St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s appropriate for particular stain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with known organisms or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rystal shards or for precip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ontaminants such as bacteria and fung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581280" y="4800600"/>
            <a:ext cx="2057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right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am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AB5FC-E361-4F19-85EE-03A746F7FDA9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C79F2-E767-4DE1-9F48-EAA205A5C2E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ram Stain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6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"/>
          <p:cNvSpPr/>
          <p:nvPr/>
        </p:nvSpPr>
        <p:spPr>
          <a:xfrm>
            <a:off x="83808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9900"/>
                </a:solidFill>
                <a:latin typeface="Verdana"/>
              </a:rPr>
              <a:t>Good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5178240" y="502920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Verdana"/>
              </a:rPr>
              <a:t>Poor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60A25-759A-4253-ABA3-ED5CED4D4C7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4B796-EA4B-4FA8-8AAB-C09EE0AF6AB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of Microbiology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erformance of all med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-house prepared: all batch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ercially prepared: new lot on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581280" y="3505320"/>
            <a:ext cx="22100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cConkey Aga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C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non-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143A5-7E57-4637-BE4C-67D716E2023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AB164-3FDA-4770-8732-120CF7E10D4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dia Problems to Avoi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3809880" y="1447920"/>
            <a:ext cx="2514600" cy="914400"/>
            <a:chOff x="3809880" y="1447920"/>
            <a:chExt cx="2514600" cy="914400"/>
          </a:xfrm>
        </p:grpSpPr>
        <p:sp>
          <p:nvSpPr>
            <p:cNvPr id="249" name="AutoShape 8"/>
            <p:cNvSpPr/>
            <p:nvPr/>
          </p:nvSpPr>
          <p:spPr>
            <a:xfrm>
              <a:off x="3888360" y="190512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AutoShape 9"/>
            <p:cNvSpPr/>
            <p:nvPr/>
          </p:nvSpPr>
          <p:spPr>
            <a:xfrm>
              <a:off x="3809880" y="144792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5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5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5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5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6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6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6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70" name="Text Box 32"/>
          <p:cNvSpPr/>
          <p:nvPr/>
        </p:nvSpPr>
        <p:spPr>
          <a:xfrm>
            <a:off x="912960" y="1523880"/>
            <a:ext cx="275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-d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ied-ou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min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609480" y="3200400"/>
            <a:ext cx="8229600" cy="26535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Human bloo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hould not be used because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 much batch to batch vari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include inhibitory substanc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including antimicrobial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contain biohazar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(e.g., hepatitis virus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1950840" cy="15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10E28-D6B9-4180-96FA-50518256D17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7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768D8-3AE9-40F7-800A-9F749B0F5E8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of Growth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eep records for media prepared in-h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ord outcomes in a dedicated media logbook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,  sterility,  ability to support growth using stock cultures,  biochemical response of stock cul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st each new batch or lot nu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E6726-5CC1-469A-8301-65D0523AE7A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91E81-E2B7-4B1A-8A5C-4B7C4D4862A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between built-in and traditional contro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use stock cultures for microbiology Q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use of quality control procedures for stains used in microscopic examin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methods for verifying performance of microbiological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DE3BE-C42C-4431-9309-88BB9B4E46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8176F-E3C7-48C7-9AC4-752FB66E334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qualitative tests produce non-numerical resul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mi-quantitative tests give an estim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stablish a QC program for qualitative and semi-quantitative tes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EC9A6-7E6C-4D00-BA18-5FA596900E2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QC procedures followed by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lways record QC results and corrective 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f QC results are not acceptable, do not report patient result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4B60A-99FB-42C5-83A4-60782CC9E43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6D6D1-3C63-4639-A706-647C29481A2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85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99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300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301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302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03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04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05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6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307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8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9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310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311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2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13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4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316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8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321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23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325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6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328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9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30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334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5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337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8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340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1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12D34-BDDF-4164-A3AF-EAA703FE2BA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y A performs a culture, a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identified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QC measures can you use to confirm that the isolate is correctly identified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1CB58-1A13-4FB9-82B5-6FBEE690741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09680" y="1066680"/>
            <a:ext cx="5105520" cy="5257440"/>
            <a:chOff x="2209680" y="1066680"/>
            <a:chExt cx="5105520" cy="5257440"/>
          </a:xfrm>
        </p:grpSpPr>
        <p:sp>
          <p:nvSpPr>
            <p:cNvPr id="136" name="AutoShape 4"/>
            <p:cNvSpPr/>
            <p:nvPr/>
          </p:nvSpPr>
          <p:spPr>
            <a:xfrm>
              <a:off x="2209680" y="1066680"/>
              <a:ext cx="5105520" cy="5257440"/>
            </a:xfrm>
            <a:custGeom>
              <a:avLst/>
              <a:gdLst>
                <a:gd name="textAreaLeft" fmla="*/ 249120 w 5105520"/>
                <a:gd name="textAreaRight" fmla="*/ 4856400 w 5105520"/>
                <a:gd name="textAreaTop" fmla="*/ 249120 h 5257440"/>
                <a:gd name="textAreaBottom" fmla="*/ 5008320 h 5257440"/>
              </a:gdLst>
              <a:ahLst/>
              <a:rect l="textAreaLeft" t="textAreaTop" r="textAreaRight" b="textAreaBottom"/>
              <a:pathLst>
                <a:path w="21600" h="22243">
                  <a:moveTo>
                    <a:pt x="3600" y="0"/>
                  </a:moveTo>
                  <a:arcTo wR="3600" hR="3600" stAng="16200000" swAng="-5400000"/>
                  <a:lnTo>
                    <a:pt x="0" y="18643"/>
                  </a:lnTo>
                  <a:arcTo wR="3600" hR="3600" stAng="10800000" swAng="-5400000"/>
                  <a:lnTo>
                    <a:pt x="18000" y="22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21160" y="3834000"/>
              <a:ext cx="118800" cy="705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76200" y="3210480"/>
              <a:ext cx="165600" cy="1108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65040" y="3148920"/>
              <a:ext cx="168840" cy="385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24720" y="5932440"/>
              <a:ext cx="10800" cy="450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566600" y="4794120"/>
              <a:ext cx="1440" cy="101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338880" y="1713960"/>
              <a:ext cx="1440" cy="39837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762080" y="1868760"/>
              <a:ext cx="144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10400" y="1917000"/>
              <a:ext cx="108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09800" y="1760400"/>
              <a:ext cx="38682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09560" y="1156680"/>
              <a:ext cx="1243080" cy="1156320"/>
              <a:chOff x="2509560" y="1156680"/>
              <a:chExt cx="1243080" cy="115632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09560" y="1156680"/>
                <a:ext cx="1220760" cy="1156320"/>
                <a:chOff x="2509560" y="1156680"/>
                <a:chExt cx="1220760" cy="115632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0320" y="1156680"/>
                  <a:ext cx="1135440" cy="1156320"/>
                  <a:chOff x="2560320" y="1156680"/>
                  <a:chExt cx="1135440" cy="115632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09560" y="1423080"/>
                  <a:ext cx="122076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1880" y="156672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41440" y="1156680"/>
              <a:ext cx="1221480" cy="1156320"/>
              <a:chOff x="4141440" y="1156680"/>
              <a:chExt cx="1221480" cy="115632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181760" y="1156680"/>
                <a:ext cx="1136160" cy="115632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41440" y="156672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18240" y="1156680"/>
              <a:ext cx="1221480" cy="1156320"/>
              <a:chOff x="5718240" y="1156680"/>
              <a:chExt cx="1221480" cy="115632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762880" y="1156680"/>
                <a:ext cx="1136160" cy="1156320"/>
                <a:chOff x="5762880" y="1156680"/>
                <a:chExt cx="1136160" cy="115632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18240" y="15710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85040" y="307512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509560" y="2458440"/>
              <a:ext cx="1223280" cy="1155960"/>
              <a:chOff x="2509560" y="2458440"/>
              <a:chExt cx="1223280" cy="115596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3880" y="2458440"/>
                <a:ext cx="11386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09560" y="273708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189680" y="2519280"/>
              <a:ext cx="113580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28920" y="2535480"/>
              <a:ext cx="113400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663160" y="2475720"/>
              <a:ext cx="1316880" cy="1155960"/>
              <a:chOff x="5663160" y="2475720"/>
              <a:chExt cx="1316880" cy="115596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38040" y="247572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663160" y="276696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09800" y="431388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509560" y="3779280"/>
              <a:ext cx="1221480" cy="1157400"/>
              <a:chOff x="2509560" y="3779280"/>
              <a:chExt cx="1221480" cy="115740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0880" y="3779280"/>
                <a:ext cx="113652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09560" y="400428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141440" y="3779280"/>
              <a:ext cx="1221480" cy="1157400"/>
              <a:chOff x="4141440" y="3779280"/>
              <a:chExt cx="1221480" cy="115740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67720" y="3779280"/>
                <a:ext cx="113688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41440" y="4022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38400" y="3772800"/>
              <a:ext cx="113724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18240" y="385020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85040" y="562680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434680" y="5090400"/>
              <a:ext cx="1399680" cy="1155960"/>
              <a:chOff x="2434680" y="5090400"/>
              <a:chExt cx="1399680" cy="115596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1200" y="5090400"/>
                <a:ext cx="113544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4680" y="5319000"/>
                <a:ext cx="139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41440" y="5024160"/>
              <a:ext cx="1221480" cy="1156320"/>
              <a:chOff x="4141440" y="5024160"/>
              <a:chExt cx="1221480" cy="115632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189320" y="5024160"/>
                <a:ext cx="1135440" cy="115632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41440" y="53186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738400" y="5090400"/>
              <a:ext cx="1221480" cy="1155960"/>
              <a:chOff x="5738400" y="5090400"/>
              <a:chExt cx="1221480" cy="115596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757120" y="509040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38400" y="531900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B33F1-6AC5-4D20-A16F-DD318137D9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ative or semi-quantitative tests - Exampl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scopic examin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pstick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rologic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biological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y reaction that produces non-numeric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D273A-2EA7-498F-80CE-1F2545BD08D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98" name="wbcrbc" descr="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A66D4-711D-4B8E-A583-0BC86B17F09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ortant Concep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mple manageme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ff competenc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mainten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ins, media and reagents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845A2-C990-40D2-9896-C343DAA2F99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7327F-2982-4C6B-8669-352EF3B59AF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Materia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ontrol materials that mimic patient samp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ference organis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B5A78-3EF0-464E-8546-AAADB0254DE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tegrated into the design of a test kit dev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utomatically run with each test perform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certain aspects of kit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y not assess enti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esting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C2E5F-5536-43A2-9218-F40D23BCA6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terials with known reacti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imic patient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the integrity of the entir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6D485-8F34-47A4-B206-F979F9EC67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09:52:17Z</dcterms:modified>
  <cp:revision>464</cp:revision>
  <dc:subject/>
  <dc:title>Slide 1</dc:title>
</cp:coreProperties>
</file>